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4EDB1-8C7F-4DFB-BE22-238771FF2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9DA26-2EEB-402A-BC02-8FCDD44CF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4C99F-7EB6-42DC-B6DF-A568D0E8D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F588A-B940-460F-8447-62A8DC51A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1E590-5089-40C5-95BE-0359DADDB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A0444-0030-48DD-AD85-3275D6457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8D094-B9C9-415B-AF90-95EB2E661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0F6BF-7EF7-42A2-8839-4FCF79A6E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E35A4-05D0-4DFD-81FA-C78D47571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EF5CC-21FA-4887-9EC9-643D898B5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72BBE-0626-4DFA-807A-49F8D9FA0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1E2AB-51F2-416D-935E-4BEF23290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B3086-1D4E-4E6B-89BD-D98DB9C480E5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284360" y="1611720"/>
            <a:ext cx="4537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827600" y="2345400"/>
            <a:ext cx="3992400" cy="4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Asus</cp:lastModifiedBy>
  <dcterms:modified xsi:type="dcterms:W3CDTF">2018-11-24T09:59:39Z</dcterms:modified>
  <cp:revision>577</cp:revision>
  <dc:subject/>
  <dc:title>Diapositiva 1</dc:title>
</cp:coreProperties>
</file>